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9C5-64FD-4BFF-B875-C09D5EDF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06B-9864-4643-81BA-A37F4211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004-2518-48B8-B6AB-34400624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EF6-B935-4EC1-B20A-C959A3A6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2AF-650E-4925-A271-86C16D27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CEB-0FFD-498E-B35B-FF1C68A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04C-29AC-4F4B-93B4-9F6B6987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48E-721A-411A-AEB2-B1AF0EE0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10B-584E-4F3B-B754-B0F901D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999-6F55-40CE-905A-48F99A8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90B-15AF-4EA3-9BA1-58D0597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84D-AEC7-4C1F-B8D8-210BA2F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B6BE-AD67-4DA3-8483-1E42964F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13800" cy="653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836640"/>
            <a:ext cx="8497800" cy="79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Flubber"/>
              </a:rPr>
              <a:t>Optical Illusion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06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349200"/>
            <a:ext cx="8136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19680" cy="61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360" y="1197000"/>
            <a:ext cx="31687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notice the small grayish dots between the black box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part of the drawing - they were put there by your brain! Scientists call this "visual vibratio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696000" cy="471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551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lephant is missing a leg...or is it? The artist confuses his viewer by changing they way our brain is used to seeing things. It seems the more you look at the elephant, the more confusing it 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507000" cy="50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5661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see the gears mov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dot and then move your head towards the screen and away from i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07240" cy="5102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805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llusion uses conflicting images from each eye to fool your brain into thinking there is spin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078680" cy="503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661000"/>
            <a:ext cx="813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y, this is weird. It looks as though it's moving, but it's 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hapes confuse the eye (really the brain) into believing that they are mov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022720" cy="503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33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out the spiral...except it is not a spiral, just circl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't believe me? Use your finger to follow the fake spir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lt of the boxes fools your brain into believing it is a spi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344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384720" cy="257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468360" y="4437000"/>
            <a:ext cx="3527640" cy="268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59280" y="1341360"/>
            <a:ext cx="558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Ravie"/>
              </a:rPr>
              <a:t>Test your colour blindn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4836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4:32:36Z</dcterms:created>
  <dc:creator>Information Technology</dc:creator>
  <dc:description/>
  <dc:language>en-US</dc:language>
  <cp:lastModifiedBy>Information Technology</cp:lastModifiedBy>
  <dcterms:modified xsi:type="dcterms:W3CDTF">2006-01-20T18:51:07Z</dcterms:modified>
  <cp:revision>5</cp:revision>
  <dc:subject/>
  <dc:title>Slide 1</dc:title>
</cp:coreProperties>
</file>